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type.wav" ContentType="audio/x-wav"/>
  <Override PartName="/ppt/media/image10.wmf" ContentType="image/x-wmf"/>
  <Override PartName="/ppt/media/image6.png" ContentType="image/png"/>
  <Override PartName="/ppt/media/image14.wmf" ContentType="image/x-wmf"/>
  <Override PartName="/ppt/media/camera.wav" ContentType="audio/x-wav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drumroll.wav" ContentType="audio/x-wav"/>
  <Override PartName="/ppt/media/image13.wmf" ContentType="image/x-wmf"/>
  <Override PartName="/ppt/media/whoosh.wav" ContentType="audio/x-wav"/>
  <Override PartName="/ppt/media/image12.wmf" ContentType="image/x-wmf"/>
  <Override PartName="/ppt/media/ricochet.wav" ContentType="audio/x-wav"/>
  <Override PartName="/ppt/media/chimes.wav" ContentType="audio/x-wav"/>
  <Override PartName="/ppt/media/image7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  <p:custShowLst>
    <p:custShow name="Custom Show 1" id="0">
      <p:sldLst>
        <p:sld r:id="rId7"/>
      </p:sldLst>
    </p:custShow>
    <p:custShow name="Custom Show 2" id="1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F89-2596-4277-8DD9-E463BB49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636B-5C26-4F4E-B1C2-646D8471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708-B44E-48FA-BC57-6C32E10C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BB5-9511-4AA5-83BE-04CDDE81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702E-52FE-4611-9872-EE6BFA0D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6BC1-9782-47FF-8635-9C3AF1F2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6C3B-9D92-4A7A-91F1-EE06B680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B444-7BB3-4809-B2AE-D87B2960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B0D5-BB07-40DB-8A46-C6C86FF0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A166-B81A-42DE-9C77-B0C8687C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A5DB-7F2B-4E35-87ED-EC0FCDC1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2E4-9E7B-43A9-AFCC-1F07AD4A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5E99-2E6D-4968-86AA-1FE9AED8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0D1B-D4A0-498E-A7E9-8845A174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9E5C-90F0-471F-9F3F-3FC3D79C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AABA-1457-40FD-8F95-8C41A270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FE70-20A5-4E6D-BA98-13E6AF25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980A-C417-4BB0-8E16-F0FD467A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C01-6849-4974-AF07-AFB7D669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B55-967D-4285-9275-5430C679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09E-4618-4864-887F-A04AC971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7A0-A7BC-46A3-A7D4-3A1BF4AD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D7D-5D86-4598-A909-A76A79FD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076-CE5D-4D5E-8975-800613A4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84AE-A346-482D-B6C2-60353F2458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1031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529B-8D70-4005-9D64-B1168E34F7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audio" Target="../media/chimes.wav"/><Relationship Id="rId7" Type="http://schemas.openxmlformats.org/officeDocument/2006/relationships/audio" Target="../media/whoosh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audio" Target="../media/chime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¿Qué piensa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li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 about the weather where you live. Brainstorm with your partner what you think the weather is like in different Spanish speaking countri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weather like in Spain right now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weather like in Chil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weather like in Puerto Ric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895680" y="228600"/>
            <a:ext cx="655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…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57200" y="1963800"/>
            <a:ext cx="888516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 el otoño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 el verano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 el mes de diciembre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 Chile en el mes de octubre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d"/>
    <p:sndAc>
      <p:stSnd>
        <p:snd r:embed="rId1" name="chimes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75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-68400" y="76320"/>
            <a:ext cx="875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Group 13"/>
          <p:cNvGrpSpPr/>
          <p:nvPr/>
        </p:nvGrpSpPr>
        <p:grpSpPr>
          <a:xfrm>
            <a:off x="1600200" y="1219320"/>
            <a:ext cx="1326960" cy="1952640"/>
            <a:chOff x="1600200" y="1219320"/>
            <a:chExt cx="1326960" cy="1952640"/>
          </a:xfrm>
        </p:grpSpPr>
        <p:pic>
          <p:nvPicPr>
            <p:cNvPr id="88" name="Picture 3" descr="so00828_"/>
            <p:cNvPicPr/>
            <p:nvPr/>
          </p:nvPicPr>
          <p:blipFill>
            <a:blip r:embed="rId1"/>
            <a:stretch/>
          </p:blipFill>
          <p:spPr>
            <a:xfrm>
              <a:off x="1600200" y="1344600"/>
              <a:ext cx="1306440" cy="18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2743200" y="1219320"/>
              <a:ext cx="183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5257800" y="3733920"/>
            <a:ext cx="2162160" cy="1844640"/>
            <a:chOff x="5257800" y="3733920"/>
            <a:chExt cx="2162160" cy="1844640"/>
          </a:xfrm>
        </p:grpSpPr>
        <p:pic>
          <p:nvPicPr>
            <p:cNvPr id="91" name="Picture 6" descr="na00391_"/>
            <p:cNvPicPr/>
            <p:nvPr/>
          </p:nvPicPr>
          <p:blipFill>
            <a:blip r:embed="rId2"/>
            <a:stretch/>
          </p:blipFill>
          <p:spPr>
            <a:xfrm>
              <a:off x="5257800" y="4392720"/>
              <a:ext cx="21621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8"/>
            <p:cNvSpPr/>
            <p:nvPr/>
          </p:nvSpPr>
          <p:spPr>
            <a:xfrm>
              <a:off x="5410080" y="3733920"/>
              <a:ext cx="184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3" name="Group 12"/>
          <p:cNvGrpSpPr/>
          <p:nvPr/>
        </p:nvGrpSpPr>
        <p:grpSpPr>
          <a:xfrm>
            <a:off x="457200" y="4038480"/>
            <a:ext cx="2282400" cy="2026080"/>
            <a:chOff x="457200" y="4038480"/>
            <a:chExt cx="2282400" cy="2026080"/>
          </a:xfrm>
        </p:grpSpPr>
        <p:pic>
          <p:nvPicPr>
            <p:cNvPr id="94" name="Picture 5" descr="na00864_"/>
            <p:cNvPicPr/>
            <p:nvPr/>
          </p:nvPicPr>
          <p:blipFill>
            <a:blip r:embed="rId3"/>
            <a:stretch/>
          </p:blipFill>
          <p:spPr>
            <a:xfrm>
              <a:off x="457200" y="4038480"/>
              <a:ext cx="16765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9"/>
            <p:cNvSpPr/>
            <p:nvPr/>
          </p:nvSpPr>
          <p:spPr>
            <a:xfrm>
              <a:off x="597600" y="5361120"/>
              <a:ext cx="214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Verdana"/>
                </a:rPr>
                <a:t>El otoño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" name="Group 14"/>
          <p:cNvGrpSpPr/>
          <p:nvPr/>
        </p:nvGrpSpPr>
        <p:grpSpPr>
          <a:xfrm>
            <a:off x="3962520" y="1600200"/>
            <a:ext cx="3413160" cy="1752480"/>
            <a:chOff x="3962520" y="1600200"/>
            <a:chExt cx="3413160" cy="1752480"/>
          </a:xfrm>
        </p:grpSpPr>
        <p:pic>
          <p:nvPicPr>
            <p:cNvPr id="97" name="Picture 4" descr="pe00542_"/>
            <p:cNvPicPr/>
            <p:nvPr/>
          </p:nvPicPr>
          <p:blipFill>
            <a:blip r:embed="rId4"/>
            <a:stretch/>
          </p:blipFill>
          <p:spPr>
            <a:xfrm>
              <a:off x="5651640" y="1600200"/>
              <a:ext cx="1724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3962520" y="2541600"/>
              <a:ext cx="184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9" name="Rectangle 15"/>
          <p:cNvSpPr/>
          <p:nvPr/>
        </p:nvSpPr>
        <p:spPr>
          <a:xfrm>
            <a:off x="685800" y="30481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a primaver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257800" y="3429000"/>
            <a:ext cx="34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 veran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4876920" y="60199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 inviern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d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2954520" y="1703520"/>
            <a:ext cx="2301840" cy="703440"/>
            <a:chOff x="2954520" y="1703520"/>
            <a:chExt cx="2301840" cy="703440"/>
          </a:xfrm>
        </p:grpSpPr>
        <p:sp>
          <p:nvSpPr>
            <p:cNvPr id="104" name="Text Box 3"/>
            <p:cNvSpPr/>
            <p:nvPr/>
          </p:nvSpPr>
          <p:spPr>
            <a:xfrm>
              <a:off x="2954520" y="1703520"/>
              <a:ext cx="143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Hace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Text Box 5"/>
            <p:cNvSpPr/>
            <p:nvPr/>
          </p:nvSpPr>
          <p:spPr>
            <a:xfrm>
              <a:off x="4786200" y="17035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" name="Text Box 6"/>
          <p:cNvSpPr/>
          <p:nvPr/>
        </p:nvSpPr>
        <p:spPr>
          <a:xfrm>
            <a:off x="4010040" y="2895480"/>
            <a:ext cx="3912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buen / mal tiemp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c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frí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fresc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Vien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184120" y="289548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(muy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598400" y="482904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(mucho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d"/>
    <p:sndAc>
      <p:stSnd>
        <p:snd r:embed="rId1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959040" y="228600"/>
            <a:ext cx="700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Hace buen tiempo…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3" descr="pe00542_"/>
          <p:cNvPicPr/>
          <p:nvPr/>
        </p:nvPicPr>
        <p:blipFill>
          <a:blip r:embed="rId1"/>
          <a:stretch/>
        </p:blipFill>
        <p:spPr>
          <a:xfrm>
            <a:off x="2895480" y="2438280"/>
            <a:ext cx="3413160" cy="3468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9436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5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934560" y="228600"/>
            <a:ext cx="656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Hace mal tiempo…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3" descr="Stormy1"/>
          <p:cNvPicPr/>
          <p:nvPr/>
        </p:nvPicPr>
        <p:blipFill>
          <a:blip r:embed="rId1"/>
          <a:stretch/>
        </p:blipFill>
        <p:spPr>
          <a:xfrm>
            <a:off x="2743200" y="2362320"/>
            <a:ext cx="3251160" cy="32684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2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-379440" y="228600"/>
            <a:ext cx="502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Verdana"/>
              </a:rPr>
              <a:t>Hace …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3" descr="Sun2"/>
          <p:cNvPicPr/>
          <p:nvPr/>
        </p:nvPicPr>
        <p:blipFill>
          <a:blip r:embed="rId1"/>
          <a:stretch/>
        </p:blipFill>
        <p:spPr>
          <a:xfrm>
            <a:off x="762120" y="1600200"/>
            <a:ext cx="1371600" cy="1359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2"/>
          <a:stretch/>
        </p:blipFill>
        <p:spPr>
          <a:xfrm>
            <a:off x="5486400" y="4419720"/>
            <a:ext cx="1446120" cy="1447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na01474_"/>
          <p:cNvPicPr/>
          <p:nvPr/>
        </p:nvPicPr>
        <p:blipFill>
          <a:blip r:embed="rId3"/>
          <a:stretch/>
        </p:blipFill>
        <p:spPr>
          <a:xfrm>
            <a:off x="2057400" y="4419720"/>
            <a:ext cx="1752480" cy="1384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69120" y="2932200"/>
            <a:ext cx="1850760" cy="100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sol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336480" y="2398680"/>
            <a:ext cx="2632680" cy="100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calor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6882840" y="3465360"/>
            <a:ext cx="2096280" cy="100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frío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800600" y="5719680"/>
            <a:ext cx="3962520" cy="100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viento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246680" y="5719680"/>
            <a:ext cx="3024360" cy="100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fresco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6" descr="sl01391_[1]"/>
          <p:cNvPicPr/>
          <p:nvPr/>
        </p:nvPicPr>
        <p:blipFill>
          <a:blip r:embed="rId4"/>
          <a:stretch/>
        </p:blipFill>
        <p:spPr>
          <a:xfrm>
            <a:off x="5029200" y="685800"/>
            <a:ext cx="934920" cy="1825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pe07665_[1]"/>
          <p:cNvPicPr/>
          <p:nvPr/>
        </p:nvPicPr>
        <p:blipFill>
          <a:blip r:embed="rId5"/>
          <a:stretch/>
        </p:blipFill>
        <p:spPr>
          <a:xfrm>
            <a:off x="7238880" y="1523880"/>
            <a:ext cx="1459080" cy="1791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6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9"/>
          <p:cNvSpPr/>
          <p:nvPr/>
        </p:nvSpPr>
        <p:spPr>
          <a:xfrm flipV="1">
            <a:off x="838080" y="228600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533520" y="205740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0021"/>
                </a:solidFill>
                <a:latin typeface="Verdana"/>
              </a:rPr>
              <a:t>Está nublado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Group 24"/>
          <p:cNvGrpSpPr/>
          <p:nvPr/>
        </p:nvGrpSpPr>
        <p:grpSpPr>
          <a:xfrm>
            <a:off x="2057400" y="1828800"/>
            <a:ext cx="6179400" cy="1482480"/>
            <a:chOff x="2057400" y="1828800"/>
            <a:chExt cx="6179400" cy="1482480"/>
          </a:xfrm>
        </p:grpSpPr>
        <p:sp>
          <p:nvSpPr>
            <p:cNvPr id="129" name="Text Box 25"/>
            <p:cNvSpPr/>
            <p:nvPr/>
          </p:nvSpPr>
          <p:spPr>
            <a:xfrm>
              <a:off x="2057400" y="2066400"/>
              <a:ext cx="183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0" name="Picture 26" descr="Clouds1"/>
            <p:cNvPicPr/>
            <p:nvPr/>
          </p:nvPicPr>
          <p:blipFill>
            <a:blip r:embed="rId1"/>
            <a:stretch/>
          </p:blipFill>
          <p:spPr>
            <a:xfrm>
              <a:off x="6152040" y="1828800"/>
              <a:ext cx="2084760" cy="148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 Box 29"/>
          <p:cNvSpPr/>
          <p:nvPr/>
        </p:nvSpPr>
        <p:spPr>
          <a:xfrm>
            <a:off x="457200" y="3657600"/>
            <a:ext cx="4495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a50021"/>
                </a:solidFill>
                <a:latin typeface="Verdana"/>
              </a:rPr>
              <a:t>Hay tormentas.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30" descr="na02278_[1]"/>
          <p:cNvPicPr/>
          <p:nvPr/>
        </p:nvPicPr>
        <p:blipFill>
          <a:blip r:embed="rId2"/>
          <a:stretch/>
        </p:blipFill>
        <p:spPr>
          <a:xfrm>
            <a:off x="5715000" y="3516480"/>
            <a:ext cx="2057400" cy="17413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3" name="chimes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" name="Group 7"/>
          <p:cNvGrpSpPr/>
          <p:nvPr/>
        </p:nvGrpSpPr>
        <p:grpSpPr>
          <a:xfrm>
            <a:off x="1295280" y="1498680"/>
            <a:ext cx="2147400" cy="3073320"/>
            <a:chOff x="1295280" y="1498680"/>
            <a:chExt cx="2147400" cy="3073320"/>
          </a:xfrm>
        </p:grpSpPr>
        <p:sp>
          <p:nvSpPr>
            <p:cNvPr id="135" name="Text Box 2"/>
            <p:cNvSpPr/>
            <p:nvPr/>
          </p:nvSpPr>
          <p:spPr>
            <a:xfrm>
              <a:off x="1575000" y="1498680"/>
              <a:ext cx="186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a50021"/>
                  </a:solidFill>
                  <a:latin typeface="Verdana"/>
                </a:rPr>
                <a:t>Llueve.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6" name="Picture 5" descr="Rain"/>
            <p:cNvPicPr/>
            <p:nvPr/>
          </p:nvPicPr>
          <p:blipFill>
            <a:blip r:embed="rId1"/>
            <a:stretch/>
          </p:blipFill>
          <p:spPr>
            <a:xfrm>
              <a:off x="1295280" y="2514600"/>
              <a:ext cx="202392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8"/>
          <p:cNvGrpSpPr/>
          <p:nvPr/>
        </p:nvGrpSpPr>
        <p:grpSpPr>
          <a:xfrm>
            <a:off x="5715000" y="1498680"/>
            <a:ext cx="2106720" cy="3225600"/>
            <a:chOff x="5715000" y="1498680"/>
            <a:chExt cx="2106720" cy="3225600"/>
          </a:xfrm>
        </p:grpSpPr>
        <p:sp>
          <p:nvSpPr>
            <p:cNvPr id="138" name="Text Box 3"/>
            <p:cNvSpPr/>
            <p:nvPr/>
          </p:nvSpPr>
          <p:spPr>
            <a:xfrm>
              <a:off x="6082560" y="1498680"/>
              <a:ext cx="170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a50021"/>
                  </a:solidFill>
                  <a:latin typeface="Verdana"/>
                </a:rPr>
                <a:t>Nieva.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9" name="Picture 6" descr=""/>
            <p:cNvPicPr/>
            <p:nvPr/>
          </p:nvPicPr>
          <p:blipFill>
            <a:blip r:embed="rId2"/>
            <a:stretch/>
          </p:blipFill>
          <p:spPr>
            <a:xfrm>
              <a:off x="5715000" y="2590920"/>
              <a:ext cx="2106720" cy="21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Text Box 9"/>
          <p:cNvSpPr/>
          <p:nvPr/>
        </p:nvSpPr>
        <p:spPr>
          <a:xfrm>
            <a:off x="875520" y="5442120"/>
            <a:ext cx="237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(Va a </a:t>
            </a:r>
            <a:r>
              <a:rPr b="1" i="1" lang="en-US" sz="3000" spc="-1" strike="noStrike" u="sng">
                <a:solidFill>
                  <a:srgbClr val="a50021"/>
                </a:solidFill>
                <a:uFillTx/>
                <a:latin typeface="Verdana"/>
              </a:rPr>
              <a:t>llover</a:t>
            </a: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(La lluvi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5562000" y="5410080"/>
            <a:ext cx="2388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(Va a </a:t>
            </a:r>
            <a:r>
              <a:rPr b="1" i="1" lang="en-US" sz="3000" spc="-1" strike="noStrike" u="sng">
                <a:solidFill>
                  <a:srgbClr val="a50021"/>
                </a:solidFill>
                <a:uFillTx/>
                <a:latin typeface="Verdana"/>
              </a:rPr>
              <a:t>nevar</a:t>
            </a: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(La niev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d"/>
    <p:sndAc>
      <p:stSnd>
        <p:snd r:embed="rId3" name="chimes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784080" y="304920"/>
            <a:ext cx="668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¿Qué temperatura hace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" name="Group 9"/>
          <p:cNvGrpSpPr/>
          <p:nvPr/>
        </p:nvGrpSpPr>
        <p:grpSpPr>
          <a:xfrm>
            <a:off x="568080" y="1828800"/>
            <a:ext cx="7975080" cy="703440"/>
            <a:chOff x="568080" y="1828800"/>
            <a:chExt cx="7975080" cy="703440"/>
          </a:xfrm>
        </p:grpSpPr>
        <p:sp>
          <p:nvSpPr>
            <p:cNvPr id="144" name="Text Box 4"/>
            <p:cNvSpPr/>
            <p:nvPr/>
          </p:nvSpPr>
          <p:spPr>
            <a:xfrm>
              <a:off x="568080" y="1828800"/>
              <a:ext cx="16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“</a:t>
              </a: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Hace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Text Box 5"/>
            <p:cNvSpPr/>
            <p:nvPr/>
          </p:nvSpPr>
          <p:spPr>
            <a:xfrm>
              <a:off x="2592000" y="1828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3375720" y="1828800"/>
              <a:ext cx="195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a50021"/>
                  </a:solidFill>
                  <a:latin typeface="Verdana"/>
                </a:rPr>
                <a:t>número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6390360" y="1828800"/>
              <a:ext cx="215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grados”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Text Box 8"/>
            <p:cNvSpPr/>
            <p:nvPr/>
          </p:nvSpPr>
          <p:spPr>
            <a:xfrm>
              <a:off x="5487840" y="1828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" name="Group 15"/>
          <p:cNvGrpSpPr/>
          <p:nvPr/>
        </p:nvGrpSpPr>
        <p:grpSpPr>
          <a:xfrm>
            <a:off x="4422600" y="2819520"/>
            <a:ext cx="4263840" cy="2881440"/>
            <a:chOff x="4422600" y="2819520"/>
            <a:chExt cx="4263840" cy="2881440"/>
          </a:xfrm>
        </p:grpSpPr>
        <p:pic>
          <p:nvPicPr>
            <p:cNvPr id="150" name="Picture 11" descr="Temphot"/>
            <p:cNvPicPr/>
            <p:nvPr/>
          </p:nvPicPr>
          <p:blipFill>
            <a:blip r:embed="rId1"/>
            <a:stretch/>
          </p:blipFill>
          <p:spPr>
            <a:xfrm>
              <a:off x="7615080" y="2819520"/>
              <a:ext cx="1071360" cy="259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2"/>
            <p:cNvSpPr/>
            <p:nvPr/>
          </p:nvSpPr>
          <p:spPr>
            <a:xfrm>
              <a:off x="4422600" y="3321720"/>
              <a:ext cx="4048200" cy="23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Verdana"/>
                </a:rPr>
                <a:t>Hace 95 grados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Verdana"/>
                </a:rPr>
                <a:t>Farenheit.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(Hace 35 grados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Centígrado.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2" name="Group 14"/>
          <p:cNvGrpSpPr/>
          <p:nvPr/>
        </p:nvGrpSpPr>
        <p:grpSpPr>
          <a:xfrm>
            <a:off x="609480" y="3048120"/>
            <a:ext cx="3962160" cy="2844360"/>
            <a:chOff x="609480" y="3048120"/>
            <a:chExt cx="3962160" cy="2844360"/>
          </a:xfrm>
        </p:grpSpPr>
        <p:pic>
          <p:nvPicPr>
            <p:cNvPr id="153" name="Picture 10" descr="Tempcold"/>
            <p:cNvPicPr/>
            <p:nvPr/>
          </p:nvPicPr>
          <p:blipFill>
            <a:blip r:embed="rId2"/>
            <a:stretch/>
          </p:blipFill>
          <p:spPr>
            <a:xfrm>
              <a:off x="609480" y="3048120"/>
              <a:ext cx="85716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3"/>
            <p:cNvSpPr/>
            <p:nvPr/>
          </p:nvSpPr>
          <p:spPr>
            <a:xfrm>
              <a:off x="821880" y="3177720"/>
              <a:ext cx="374976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Verdana"/>
                </a:rPr>
                <a:t>Hace 32 grados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Verdana"/>
                </a:rPr>
                <a:t>Farenheit.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(Hace 0 grados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Centígrado.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d"/>
    <p:sndAc>
      <p:stSnd>
        <p:snd r:embed="rId3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iltmar</cp:lastModifiedBy>
  <dcterms:modified xsi:type="dcterms:W3CDTF">2009-01-12T18:59:45Z</dcterms:modified>
  <cp:revision>23</cp:revision>
  <dc:subject/>
  <dc:title>PowerPoint Presentation</dc:title>
</cp:coreProperties>
</file>