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type.wav" ContentType="audio/x-wav"/>
  <Override PartName="/ppt/media/image10.wmf" ContentType="image/x-wmf"/>
  <Override PartName="/ppt/media/image6.png" ContentType="image/png"/>
  <Override PartName="/ppt/media/image14.wmf" ContentType="image/x-wmf"/>
  <Override PartName="/ppt/media/camera.wav" ContentType="audio/x-wav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drumroll.wav" ContentType="audio/x-wav"/>
  <Override PartName="/ppt/media/image13.wmf" ContentType="image/x-wmf"/>
  <Override PartName="/ppt/media/whoosh.wav" ContentType="audio/x-wav"/>
  <Override PartName="/ppt/media/image12.wmf" ContentType="image/x-wmf"/>
  <Override PartName="/ppt/media/ricochet.wav" ContentType="audio/x-wav"/>
  <Override PartName="/ppt/media/chimes.wav" ContentType="audio/x-wav"/>
  <Override PartName="/ppt/media/image7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Custom Show 1" id="0">
      <p:sldLst>
        <p:sld r:id="rId7"/>
      </p:sldLst>
    </p:custShow>
    <p:custShow name="Custom Show 2" id="1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27C-2883-43BC-90C5-0BFA4A1C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0D4-6FB5-41C7-BC23-3E3A4362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EE7-E4B3-40BF-AF88-2D08F14B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49A-3224-4E07-A353-E3D81209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945B-DDC8-4D95-ADA0-A7D1F5B9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3E9C-7EB8-4461-96CD-3CB5CA0A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40BE-7048-4662-81CE-D35F2D85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62BB-8E31-4B91-A26C-6F248B7D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FB1A-6257-4F97-813D-D5AE464D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E9D0-A6BC-4AF8-8601-58C58B24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4085-BCA5-4450-8786-BC9C78ED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23A-CD5F-4480-8593-5EA57E26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03BC-1130-4081-9431-A9DC0EFC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FE3E-E113-4C75-B604-6B69F297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3BF8-E9E9-4B06-A20D-CCCE0AF5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8201-5C68-41C9-8CED-E08C8D3D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1E78-2486-4D60-B7FB-C52FD299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E26-8442-4BE5-B2F8-732872B8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5A5-1EE0-4ECB-BB91-53C03DDE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E6F-2BE1-4856-940F-FA91E741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08F-1EB8-42D4-B650-E4432D43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9AE-C603-44F3-B7FE-32662536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632-6663-40C1-A034-3D685D8B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56C-E744-497A-AE0E-38EBF7B0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D86F-2D60-4908-A435-438DB64EE2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1031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BFEF-AB05-443B-A251-A37763975A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audio" Target="../media/chime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¿Qué piensa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i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about the weather where you live. Brainstorm with your partner what you think the weather is like in different Spanish speaking countri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Spain right now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Chi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Puerto Ric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895680" y="228600"/>
            <a:ext cx="65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1963800"/>
            <a:ext cx="88851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otoño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verano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mes de diciembr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Chile en el mes de octubr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-68400" y="76320"/>
            <a:ext cx="875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1600200" y="1219320"/>
            <a:ext cx="1326960" cy="1952640"/>
            <a:chOff x="1600200" y="1219320"/>
            <a:chExt cx="1326960" cy="1952640"/>
          </a:xfrm>
        </p:grpSpPr>
        <p:pic>
          <p:nvPicPr>
            <p:cNvPr id="88" name="Picture 3" descr="so00828_"/>
            <p:cNvPicPr/>
            <p:nvPr/>
          </p:nvPicPr>
          <p:blipFill>
            <a:blip r:embed="rId1"/>
            <a:stretch/>
          </p:blipFill>
          <p:spPr>
            <a:xfrm>
              <a:off x="1600200" y="1344600"/>
              <a:ext cx="130644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2743200" y="121932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5257800" y="3733920"/>
            <a:ext cx="2162160" cy="1844640"/>
            <a:chOff x="5257800" y="3733920"/>
            <a:chExt cx="2162160" cy="1844640"/>
          </a:xfrm>
        </p:grpSpPr>
        <p:pic>
          <p:nvPicPr>
            <p:cNvPr id="91" name="Picture 6" descr="na00391_"/>
            <p:cNvPicPr/>
            <p:nvPr/>
          </p:nvPicPr>
          <p:blipFill>
            <a:blip r:embed="rId2"/>
            <a:stretch/>
          </p:blipFill>
          <p:spPr>
            <a:xfrm>
              <a:off x="5257800" y="4392720"/>
              <a:ext cx="21621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8"/>
            <p:cNvSpPr/>
            <p:nvPr/>
          </p:nvSpPr>
          <p:spPr>
            <a:xfrm>
              <a:off x="5410080" y="3733920"/>
              <a:ext cx="184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" name="Group 12"/>
          <p:cNvGrpSpPr/>
          <p:nvPr/>
        </p:nvGrpSpPr>
        <p:grpSpPr>
          <a:xfrm>
            <a:off x="457200" y="4038480"/>
            <a:ext cx="2282400" cy="2026080"/>
            <a:chOff x="457200" y="4038480"/>
            <a:chExt cx="2282400" cy="2026080"/>
          </a:xfrm>
        </p:grpSpPr>
        <p:pic>
          <p:nvPicPr>
            <p:cNvPr id="94" name="Picture 5" descr="na00864_"/>
            <p:cNvPicPr/>
            <p:nvPr/>
          </p:nvPicPr>
          <p:blipFill>
            <a:blip r:embed="rId3"/>
            <a:stretch/>
          </p:blipFill>
          <p:spPr>
            <a:xfrm>
              <a:off x="457200" y="4038480"/>
              <a:ext cx="16765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597600" y="5361120"/>
              <a:ext cx="214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Verdana"/>
                </a:rPr>
                <a:t>El otoño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3962520" y="1600200"/>
            <a:ext cx="3413160" cy="1752480"/>
            <a:chOff x="3962520" y="1600200"/>
            <a:chExt cx="3413160" cy="1752480"/>
          </a:xfrm>
        </p:grpSpPr>
        <p:pic>
          <p:nvPicPr>
            <p:cNvPr id="97" name="Picture 4" descr="pe00542_"/>
            <p:cNvPicPr/>
            <p:nvPr/>
          </p:nvPicPr>
          <p:blipFill>
            <a:blip r:embed="rId4"/>
            <a:stretch/>
          </p:blipFill>
          <p:spPr>
            <a:xfrm>
              <a:off x="5651640" y="1600200"/>
              <a:ext cx="1724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3962520" y="2541600"/>
              <a:ext cx="184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Rectangle 15"/>
          <p:cNvSpPr/>
          <p:nvPr/>
        </p:nvSpPr>
        <p:spPr>
          <a:xfrm>
            <a:off x="685800" y="30481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 primave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257800" y="3429000"/>
            <a:ext cx="34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 veran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4876920" y="60199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 inviern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2954520" y="1703520"/>
            <a:ext cx="2301840" cy="703440"/>
            <a:chOff x="2954520" y="1703520"/>
            <a:chExt cx="2301840" cy="703440"/>
          </a:xfrm>
        </p:grpSpPr>
        <p:sp>
          <p:nvSpPr>
            <p:cNvPr id="104" name="Text Box 3"/>
            <p:cNvSpPr/>
            <p:nvPr/>
          </p:nvSpPr>
          <p:spPr>
            <a:xfrm>
              <a:off x="2954520" y="1703520"/>
              <a:ext cx="143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4786200" y="1703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6"/>
          <p:cNvSpPr/>
          <p:nvPr/>
        </p:nvSpPr>
        <p:spPr>
          <a:xfrm>
            <a:off x="4010040" y="2895480"/>
            <a:ext cx="391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buen / mal tiemp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c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í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esc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V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184120" y="28954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598400" y="482904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ch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59040" y="228600"/>
            <a:ext cx="700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buen tiempo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3" descr="pe00542_"/>
          <p:cNvPicPr/>
          <p:nvPr/>
        </p:nvPicPr>
        <p:blipFill>
          <a:blip r:embed="rId1"/>
          <a:stretch/>
        </p:blipFill>
        <p:spPr>
          <a:xfrm>
            <a:off x="2895480" y="2438280"/>
            <a:ext cx="3413160" cy="34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5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34560" y="228600"/>
            <a:ext cx="656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mal tiempo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3" descr="Stormy1"/>
          <p:cNvPicPr/>
          <p:nvPr/>
        </p:nvPicPr>
        <p:blipFill>
          <a:blip r:embed="rId1"/>
          <a:stretch/>
        </p:blipFill>
        <p:spPr>
          <a:xfrm>
            <a:off x="2743200" y="2362320"/>
            <a:ext cx="3251160" cy="3268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-379440" y="228600"/>
            <a:ext cx="502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Verdana"/>
              </a:rPr>
              <a:t>Hace …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3" descr="Sun2"/>
          <p:cNvPicPr/>
          <p:nvPr/>
        </p:nvPicPr>
        <p:blipFill>
          <a:blip r:embed="rId1"/>
          <a:stretch/>
        </p:blipFill>
        <p:spPr>
          <a:xfrm>
            <a:off x="762120" y="1600200"/>
            <a:ext cx="1371600" cy="135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5486400" y="4419720"/>
            <a:ext cx="1446120" cy="144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na01474_"/>
          <p:cNvPicPr/>
          <p:nvPr/>
        </p:nvPicPr>
        <p:blipFill>
          <a:blip r:embed="rId3"/>
          <a:stretch/>
        </p:blipFill>
        <p:spPr>
          <a:xfrm>
            <a:off x="2057400" y="4419720"/>
            <a:ext cx="1752480" cy="1384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69120" y="2932200"/>
            <a:ext cx="185076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sol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336480" y="2398680"/>
            <a:ext cx="263268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calo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6882840" y="3465360"/>
            <a:ext cx="209628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frí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800600" y="5719680"/>
            <a:ext cx="396252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vient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246680" y="5719680"/>
            <a:ext cx="302436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fresc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6" descr="sl01391_[1]"/>
          <p:cNvPicPr/>
          <p:nvPr/>
        </p:nvPicPr>
        <p:blipFill>
          <a:blip r:embed="rId4"/>
          <a:stretch/>
        </p:blipFill>
        <p:spPr>
          <a:xfrm>
            <a:off x="5029200" y="685800"/>
            <a:ext cx="934920" cy="1825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pe07665_[1]"/>
          <p:cNvPicPr/>
          <p:nvPr/>
        </p:nvPicPr>
        <p:blipFill>
          <a:blip r:embed="rId5"/>
          <a:stretch/>
        </p:blipFill>
        <p:spPr>
          <a:xfrm>
            <a:off x="7238880" y="1523880"/>
            <a:ext cx="1459080" cy="179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6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9"/>
          <p:cNvSpPr/>
          <p:nvPr/>
        </p:nvSpPr>
        <p:spPr>
          <a:xfrm flipV="1">
            <a:off x="838080" y="22860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533520" y="20574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Verdana"/>
              </a:rPr>
              <a:t>Está nublado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24"/>
          <p:cNvGrpSpPr/>
          <p:nvPr/>
        </p:nvGrpSpPr>
        <p:grpSpPr>
          <a:xfrm>
            <a:off x="2057400" y="1828800"/>
            <a:ext cx="6179400" cy="1482480"/>
            <a:chOff x="2057400" y="1828800"/>
            <a:chExt cx="6179400" cy="1482480"/>
          </a:xfrm>
        </p:grpSpPr>
        <p:sp>
          <p:nvSpPr>
            <p:cNvPr id="129" name="Text Box 25"/>
            <p:cNvSpPr/>
            <p:nvPr/>
          </p:nvSpPr>
          <p:spPr>
            <a:xfrm>
              <a:off x="2057400" y="2066400"/>
              <a:ext cx="183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0" name="Picture 26" descr="Clouds1"/>
            <p:cNvPicPr/>
            <p:nvPr/>
          </p:nvPicPr>
          <p:blipFill>
            <a:blip r:embed="rId1"/>
            <a:stretch/>
          </p:blipFill>
          <p:spPr>
            <a:xfrm>
              <a:off x="6152040" y="1828800"/>
              <a:ext cx="2084760" cy="148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29"/>
          <p:cNvSpPr/>
          <p:nvPr/>
        </p:nvSpPr>
        <p:spPr>
          <a:xfrm>
            <a:off x="457200" y="3657600"/>
            <a:ext cx="449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a50021"/>
                </a:solidFill>
                <a:latin typeface="Verdana"/>
              </a:rPr>
              <a:t>Hay tormentas.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0" descr="na02278_[1]"/>
          <p:cNvPicPr/>
          <p:nvPr/>
        </p:nvPicPr>
        <p:blipFill>
          <a:blip r:embed="rId2"/>
          <a:stretch/>
        </p:blipFill>
        <p:spPr>
          <a:xfrm>
            <a:off x="5715000" y="3516480"/>
            <a:ext cx="2057400" cy="1741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3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1295280" y="1498680"/>
            <a:ext cx="2147400" cy="3073320"/>
            <a:chOff x="1295280" y="1498680"/>
            <a:chExt cx="2147400" cy="3073320"/>
          </a:xfrm>
        </p:grpSpPr>
        <p:sp>
          <p:nvSpPr>
            <p:cNvPr id="135" name="Text Box 2"/>
            <p:cNvSpPr/>
            <p:nvPr/>
          </p:nvSpPr>
          <p:spPr>
            <a:xfrm>
              <a:off x="1575000" y="1498680"/>
              <a:ext cx="186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50021"/>
                  </a:solidFill>
                  <a:latin typeface="Verdana"/>
                </a:rPr>
                <a:t>Llueve.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6" name="Picture 5" descr="Rain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202392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8"/>
          <p:cNvGrpSpPr/>
          <p:nvPr/>
        </p:nvGrpSpPr>
        <p:grpSpPr>
          <a:xfrm>
            <a:off x="5715000" y="1498680"/>
            <a:ext cx="2106720" cy="3225600"/>
            <a:chOff x="5715000" y="1498680"/>
            <a:chExt cx="2106720" cy="3225600"/>
          </a:xfrm>
        </p:grpSpPr>
        <p:sp>
          <p:nvSpPr>
            <p:cNvPr id="138" name="Text Box 3"/>
            <p:cNvSpPr/>
            <p:nvPr/>
          </p:nvSpPr>
          <p:spPr>
            <a:xfrm>
              <a:off x="6082560" y="149868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50021"/>
                  </a:solidFill>
                  <a:latin typeface="Verdana"/>
                </a:rPr>
                <a:t>Nieva.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9" name="Picture 6" descr=""/>
            <p:cNvPicPr/>
            <p:nvPr/>
          </p:nvPicPr>
          <p:blipFill>
            <a:blip r:embed="rId2"/>
            <a:stretch/>
          </p:blipFill>
          <p:spPr>
            <a:xfrm>
              <a:off x="5715000" y="2590920"/>
              <a:ext cx="210672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Text Box 9"/>
          <p:cNvSpPr/>
          <p:nvPr/>
        </p:nvSpPr>
        <p:spPr>
          <a:xfrm>
            <a:off x="875520" y="5442120"/>
            <a:ext cx="237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3000" spc="-1" strike="noStrike" u="sng">
                <a:solidFill>
                  <a:srgbClr val="a50021"/>
                </a:solidFill>
                <a:uFillTx/>
                <a:latin typeface="Verdana"/>
              </a:rPr>
              <a:t>llover</a:t>
            </a: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La lluvi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562000" y="5410080"/>
            <a:ext cx="2388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3000" spc="-1" strike="noStrike" u="sng">
                <a:solidFill>
                  <a:srgbClr val="a50021"/>
                </a:solidFill>
                <a:uFillTx/>
                <a:latin typeface="Verdana"/>
              </a:rPr>
              <a:t>nevar</a:t>
            </a: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La niev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3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84080" y="304920"/>
            <a:ext cx="668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¿Qué temperatura hace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568080" y="1828800"/>
            <a:ext cx="7975080" cy="703440"/>
            <a:chOff x="568080" y="1828800"/>
            <a:chExt cx="7975080" cy="703440"/>
          </a:xfrm>
        </p:grpSpPr>
        <p:sp>
          <p:nvSpPr>
            <p:cNvPr id="144" name="Text Box 4"/>
            <p:cNvSpPr/>
            <p:nvPr/>
          </p:nvSpPr>
          <p:spPr>
            <a:xfrm>
              <a:off x="568080" y="1828800"/>
              <a:ext cx="16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“</a:t>
              </a: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Text Box 5"/>
            <p:cNvSpPr/>
            <p:nvPr/>
          </p:nvSpPr>
          <p:spPr>
            <a:xfrm>
              <a:off x="259200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3375720" y="1828800"/>
              <a:ext cx="195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a50021"/>
                  </a:solidFill>
                  <a:latin typeface="Verdana"/>
                </a:rPr>
                <a:t>número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6390360" y="1828800"/>
              <a:ext cx="215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grados”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548784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4422600" y="2819520"/>
            <a:ext cx="4263840" cy="2881440"/>
            <a:chOff x="4422600" y="2819520"/>
            <a:chExt cx="4263840" cy="2881440"/>
          </a:xfrm>
        </p:grpSpPr>
        <p:pic>
          <p:nvPicPr>
            <p:cNvPr id="150" name="Picture 11" descr="Temphot"/>
            <p:cNvPicPr/>
            <p:nvPr/>
          </p:nvPicPr>
          <p:blipFill>
            <a:blip r:embed="rId1"/>
            <a:stretch/>
          </p:blipFill>
          <p:spPr>
            <a:xfrm>
              <a:off x="7615080" y="2819520"/>
              <a:ext cx="1071360" cy="259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2"/>
            <p:cNvSpPr/>
            <p:nvPr/>
          </p:nvSpPr>
          <p:spPr>
            <a:xfrm>
              <a:off x="4422600" y="3321720"/>
              <a:ext cx="4048200" cy="23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Hace 95 grados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35 grados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480" y="3048120"/>
            <a:ext cx="3962160" cy="2844360"/>
            <a:chOff x="609480" y="3048120"/>
            <a:chExt cx="3962160" cy="2844360"/>
          </a:xfrm>
        </p:grpSpPr>
        <p:pic>
          <p:nvPicPr>
            <p:cNvPr id="153" name="Picture 10" descr="Tempcold"/>
            <p:cNvPicPr/>
            <p:nvPr/>
          </p:nvPicPr>
          <p:blipFill>
            <a:blip r:embed="rId2"/>
            <a:stretch/>
          </p:blipFill>
          <p:spPr>
            <a:xfrm>
              <a:off x="609480" y="3048120"/>
              <a:ext cx="85716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3"/>
            <p:cNvSpPr/>
            <p:nvPr/>
          </p:nvSpPr>
          <p:spPr>
            <a:xfrm>
              <a:off x="821880" y="3177720"/>
              <a:ext cx="37497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Hace 32 grados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0 grados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d"/>
    <p:sndAc>
      <p:stSnd>
        <p:snd r:embed="rId3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iltmar</cp:lastModifiedBy>
  <dcterms:modified xsi:type="dcterms:W3CDTF">2009-01-12T18:59:45Z</dcterms:modified>
  <cp:revision>23</cp:revision>
  <dc:subject/>
  <dc:title>PowerPoint Presentation</dc:title>
</cp:coreProperties>
</file>