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type.wav" ContentType="audio/x-wav"/>
  <Override PartName="/ppt/media/image10.wmf" ContentType="image/x-wmf"/>
  <Override PartName="/ppt/media/image6.png" ContentType="image/png"/>
  <Override PartName="/ppt/media/image14.wmf" ContentType="image/x-wmf"/>
  <Override PartName="/ppt/media/camera.wav" ContentType="audio/x-wav"/>
  <Override PartName="/ppt/media/image5.wmf" ContentType="image/x-wmf"/>
  <Override PartName="/ppt/media/image4.wmf" ContentType="image/x-wmf"/>
  <Override PartName="/ppt/media/image3.wmf" ContentType="image/x-wmf"/>
  <Override PartName="/ppt/media/image2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drumroll.wav" ContentType="audio/x-wav"/>
  <Override PartName="/ppt/media/image13.wmf" ContentType="image/x-wmf"/>
  <Override PartName="/ppt/media/whoosh.wav" ContentType="audio/x-wav"/>
  <Override PartName="/ppt/media/image12.wmf" ContentType="image/x-wmf"/>
  <Override PartName="/ppt/media/ricochet.wav" ContentType="audio/x-wav"/>
  <Override PartName="/ppt/media/chimes.wav" ContentType="audio/x-wav"/>
  <Override PartName="/ppt/media/image7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  <p:custShowLst>
    <p:custShow name="Custom Show 1" id="0">
      <p:sldLst>
        <p:sld r:id="rId7"/>
      </p:sldLst>
    </p:custShow>
    <p:custShow name="Custom Show 2" id="1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1B13-5BF3-4F7F-88A5-4F8481A24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6799-3839-4ED6-8F10-CE39C0F9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AFD4-CF3A-450D-868A-F5960F7B4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A5ED-B69D-401B-AEE8-C68AAF581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6CDD-F780-4C05-9CAC-5C8279D73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7AE9-599C-4305-BF10-407E064D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CB27-5F5D-4265-9F17-059E1605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4886-CBBA-489D-890B-2261AE4A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EE96-3957-4EA2-8C6F-8643310A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17A5-D0D8-40A8-9CDA-E41F4A19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9BEF-3065-4E15-86C2-9AEBA7FD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A561-3F35-4643-9974-75BDB5E7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82A0-E7D0-46C2-BF59-8196E93A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586D-3E45-4708-AD52-8D9C328A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C6AF-A917-468E-9760-BFFFDFB3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BB97-4C9B-4E02-A26F-11729524E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7900-71B5-4B70-800C-915F4AF9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0E2C-0C98-4A37-8B86-70A5DAAF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2C97-A91B-4191-9561-8B51BB30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694E-DE23-44BA-8B5C-88E0A41A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C7A8-5E2F-4E83-BE2F-65AB25F0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289A-DE79-4388-8F64-3195179B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CB44-9D4B-4F19-B193-883DEA08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53A2-477C-47B4-A4F2-357A3A3A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853E-5F41-4F78-8DB0-5F3280A450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1031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5F3D-0ADB-4C60-848B-8D849F5CEEF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file:///tmp/home/.config/libreoffice/4/user/gallery/type.wav" TargetMode="External"/><Relationship Id="rId3" Type="http://schemas.microsoft.com/office/2007/relationships/media" Target="file:///tmp/home/.config/libreoffice/4/user/gallery/type.wav" TargetMode="External"/><Relationship Id="rId4" Type="http://schemas.openxmlformats.org/officeDocument/2006/relationships/image" Target="../media/image6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audio" Target="../media/chimes.wav"/><Relationship Id="rId7" Type="http://schemas.openxmlformats.org/officeDocument/2006/relationships/audio" Target="../media/whoosh.wav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audio" Target="../media/drumroll.wav"/><Relationship Id="rId11" Type="http://schemas.openxmlformats.org/officeDocument/2006/relationships/audio" Target="../media/drumroll.wav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audio" Target="../media/chimes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audio" Target="../media/chimes.wav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¿Qué piensas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limient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k about the weather where you live. Brainstorm with your partner what you think the weather is like in different Spanish speaking countrie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the weather like in Spain right now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the weather like in Chil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the weather like in Puerto Ric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ll dir="d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895680" y="228600"/>
            <a:ext cx="655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Verdana"/>
              </a:rPr>
              <a:t>¿Qué tiempo hace…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457200" y="1963800"/>
            <a:ext cx="888516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n el otoño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n el verano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n el mes de diciembre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n Chile en el mes de octubre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d"/>
    <p:sndAc>
      <p:stSnd>
        <p:snd r:embed="rId1" name="chimes.wav"/>
      </p:stSnd>
    </p:sndAc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75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-68400" y="76320"/>
            <a:ext cx="875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Verdana"/>
              </a:rPr>
              <a:t>¿Qué tiempo hace?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" name="Group 13"/>
          <p:cNvGrpSpPr/>
          <p:nvPr/>
        </p:nvGrpSpPr>
        <p:grpSpPr>
          <a:xfrm>
            <a:off x="1600200" y="1219320"/>
            <a:ext cx="1326960" cy="1952640"/>
            <a:chOff x="1600200" y="1219320"/>
            <a:chExt cx="1326960" cy="1952640"/>
          </a:xfrm>
        </p:grpSpPr>
        <p:pic>
          <p:nvPicPr>
            <p:cNvPr id="88" name="Picture 3" descr="so00828_"/>
            <p:cNvPicPr/>
            <p:nvPr/>
          </p:nvPicPr>
          <p:blipFill>
            <a:blip r:embed="rId1"/>
            <a:stretch/>
          </p:blipFill>
          <p:spPr>
            <a:xfrm>
              <a:off x="1600200" y="1344600"/>
              <a:ext cx="1306440" cy="18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7"/>
            <p:cNvSpPr/>
            <p:nvPr/>
          </p:nvSpPr>
          <p:spPr>
            <a:xfrm>
              <a:off x="2743200" y="1219320"/>
              <a:ext cx="1839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0" name="Group 11"/>
          <p:cNvGrpSpPr/>
          <p:nvPr/>
        </p:nvGrpSpPr>
        <p:grpSpPr>
          <a:xfrm>
            <a:off x="5257800" y="3733920"/>
            <a:ext cx="2162160" cy="1844640"/>
            <a:chOff x="5257800" y="3733920"/>
            <a:chExt cx="2162160" cy="1844640"/>
          </a:xfrm>
        </p:grpSpPr>
        <p:pic>
          <p:nvPicPr>
            <p:cNvPr id="91" name="Picture 6" descr="na00391_"/>
            <p:cNvPicPr/>
            <p:nvPr/>
          </p:nvPicPr>
          <p:blipFill>
            <a:blip r:embed="rId2"/>
            <a:stretch/>
          </p:blipFill>
          <p:spPr>
            <a:xfrm>
              <a:off x="5257800" y="4392720"/>
              <a:ext cx="216216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8"/>
            <p:cNvSpPr/>
            <p:nvPr/>
          </p:nvSpPr>
          <p:spPr>
            <a:xfrm>
              <a:off x="5410080" y="3733920"/>
              <a:ext cx="1843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3" name="Group 12"/>
          <p:cNvGrpSpPr/>
          <p:nvPr/>
        </p:nvGrpSpPr>
        <p:grpSpPr>
          <a:xfrm>
            <a:off x="457200" y="4038480"/>
            <a:ext cx="2282400" cy="2026080"/>
            <a:chOff x="457200" y="4038480"/>
            <a:chExt cx="2282400" cy="2026080"/>
          </a:xfrm>
        </p:grpSpPr>
        <p:pic>
          <p:nvPicPr>
            <p:cNvPr id="94" name="Picture 5" descr="na00864_"/>
            <p:cNvPicPr/>
            <p:nvPr/>
          </p:nvPicPr>
          <p:blipFill>
            <a:blip r:embed="rId3"/>
            <a:stretch/>
          </p:blipFill>
          <p:spPr>
            <a:xfrm>
              <a:off x="457200" y="4038480"/>
              <a:ext cx="167652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9"/>
            <p:cNvSpPr/>
            <p:nvPr/>
          </p:nvSpPr>
          <p:spPr>
            <a:xfrm>
              <a:off x="597600" y="5361120"/>
              <a:ext cx="214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Verdana"/>
                </a:rPr>
                <a:t>El otoño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6" name="Group 14"/>
          <p:cNvGrpSpPr/>
          <p:nvPr/>
        </p:nvGrpSpPr>
        <p:grpSpPr>
          <a:xfrm>
            <a:off x="3962520" y="1600200"/>
            <a:ext cx="3413160" cy="1752480"/>
            <a:chOff x="3962520" y="1600200"/>
            <a:chExt cx="3413160" cy="1752480"/>
          </a:xfrm>
        </p:grpSpPr>
        <p:pic>
          <p:nvPicPr>
            <p:cNvPr id="97" name="Picture 4" descr="pe00542_"/>
            <p:cNvPicPr/>
            <p:nvPr/>
          </p:nvPicPr>
          <p:blipFill>
            <a:blip r:embed="rId4"/>
            <a:stretch/>
          </p:blipFill>
          <p:spPr>
            <a:xfrm>
              <a:off x="5651640" y="1600200"/>
              <a:ext cx="1724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3962520" y="2541600"/>
              <a:ext cx="1843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9" name="Rectangle 15"/>
          <p:cNvSpPr/>
          <p:nvPr/>
        </p:nvSpPr>
        <p:spPr>
          <a:xfrm>
            <a:off x="685800" y="304812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a primaver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5257800" y="3429000"/>
            <a:ext cx="341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l veran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4876920" y="601992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l inviern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d"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834840" y="228600"/>
            <a:ext cx="629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Verdana"/>
              </a:rPr>
              <a:t>¿Qué tiempo hace?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3" name="Group 10"/>
          <p:cNvGrpSpPr/>
          <p:nvPr/>
        </p:nvGrpSpPr>
        <p:grpSpPr>
          <a:xfrm>
            <a:off x="2954520" y="1703520"/>
            <a:ext cx="2301840" cy="703440"/>
            <a:chOff x="2954520" y="1703520"/>
            <a:chExt cx="2301840" cy="703440"/>
          </a:xfrm>
        </p:grpSpPr>
        <p:sp>
          <p:nvSpPr>
            <p:cNvPr id="104" name="Text Box 3"/>
            <p:cNvSpPr/>
            <p:nvPr/>
          </p:nvSpPr>
          <p:spPr>
            <a:xfrm>
              <a:off x="2954520" y="1703520"/>
              <a:ext cx="1436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Hace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Text Box 5"/>
            <p:cNvSpPr/>
            <p:nvPr/>
          </p:nvSpPr>
          <p:spPr>
            <a:xfrm>
              <a:off x="4786200" y="17035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6" name="Text Box 6"/>
          <p:cNvSpPr/>
          <p:nvPr/>
        </p:nvSpPr>
        <p:spPr>
          <a:xfrm>
            <a:off x="4010040" y="2895480"/>
            <a:ext cx="3912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buen / mal tiemp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so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cal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frí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fresc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Vien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184120" y="2895480"/>
            <a:ext cx="13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(muy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598400" y="4829040"/>
            <a:ext cx="18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(mucho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d"/>
    <p:sndAc>
      <p:stSnd>
        <p:snd r:embed="rId1" name="chimes.wav"/>
      </p:stSnd>
    </p:sndAc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959040" y="228600"/>
            <a:ext cx="700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Verdana"/>
              </a:rPr>
              <a:t>Hace buen tiempo…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3" descr="pe00542_"/>
          <p:cNvPicPr/>
          <p:nvPr/>
        </p:nvPicPr>
        <p:blipFill>
          <a:blip r:embed="rId1"/>
          <a:stretch/>
        </p:blipFill>
        <p:spPr>
          <a:xfrm>
            <a:off x="2895480" y="2438280"/>
            <a:ext cx="3413160" cy="3468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94360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  <p:sndAc>
      <p:stSnd>
        <p:snd r:embed="rId5" name="chimes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1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934560" y="228600"/>
            <a:ext cx="656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Verdana"/>
              </a:rPr>
              <a:t>Hace mal tiempo…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3" descr="Stormy1"/>
          <p:cNvPicPr/>
          <p:nvPr/>
        </p:nvPicPr>
        <p:blipFill>
          <a:blip r:embed="rId1"/>
          <a:stretch/>
        </p:blipFill>
        <p:spPr>
          <a:xfrm>
            <a:off x="2743200" y="2362320"/>
            <a:ext cx="3251160" cy="326844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  <p:sndAc>
      <p:stSnd>
        <p:snd r:embed="rId2" name="chimes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-379440" y="228600"/>
            <a:ext cx="5027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6600"/>
                </a:solidFill>
                <a:latin typeface="Verdana"/>
              </a:rPr>
              <a:t>Hace …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3" descr="Sun2"/>
          <p:cNvPicPr/>
          <p:nvPr/>
        </p:nvPicPr>
        <p:blipFill>
          <a:blip r:embed="rId1"/>
          <a:stretch/>
        </p:blipFill>
        <p:spPr>
          <a:xfrm>
            <a:off x="762120" y="1600200"/>
            <a:ext cx="1371600" cy="1359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2"/>
          <a:stretch/>
        </p:blipFill>
        <p:spPr>
          <a:xfrm>
            <a:off x="5486400" y="4419720"/>
            <a:ext cx="1446120" cy="1447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na01474_"/>
          <p:cNvPicPr/>
          <p:nvPr/>
        </p:nvPicPr>
        <p:blipFill>
          <a:blip r:embed="rId3"/>
          <a:stretch/>
        </p:blipFill>
        <p:spPr>
          <a:xfrm>
            <a:off x="2057400" y="4419720"/>
            <a:ext cx="1752480" cy="13842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69120" y="2932200"/>
            <a:ext cx="1850760" cy="10083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6600"/>
                </a:solidFill>
                <a:latin typeface="Verdana"/>
              </a:rPr>
              <a:t>…</a:t>
            </a:r>
            <a:r>
              <a:rPr b="1" i="1" lang="en-US" sz="6000" spc="-1" strike="noStrike">
                <a:solidFill>
                  <a:srgbClr val="ff6600"/>
                </a:solidFill>
                <a:latin typeface="Verdana"/>
              </a:rPr>
              <a:t>sol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3336480" y="2398680"/>
            <a:ext cx="2632680" cy="10083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6600"/>
                </a:solidFill>
                <a:latin typeface="Verdana"/>
              </a:rPr>
              <a:t>…</a:t>
            </a:r>
            <a:r>
              <a:rPr b="1" i="1" lang="en-US" sz="6000" spc="-1" strike="noStrike">
                <a:solidFill>
                  <a:srgbClr val="ff6600"/>
                </a:solidFill>
                <a:latin typeface="Verdana"/>
              </a:rPr>
              <a:t>calor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6882840" y="3465360"/>
            <a:ext cx="2096280" cy="10083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6600"/>
                </a:solidFill>
                <a:latin typeface="Verdana"/>
              </a:rPr>
              <a:t>…</a:t>
            </a:r>
            <a:r>
              <a:rPr b="1" i="1" lang="en-US" sz="6000" spc="-1" strike="noStrike">
                <a:solidFill>
                  <a:srgbClr val="ff6600"/>
                </a:solidFill>
                <a:latin typeface="Verdana"/>
              </a:rPr>
              <a:t>frío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800600" y="5719680"/>
            <a:ext cx="3962520" cy="10083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6600"/>
                </a:solidFill>
                <a:latin typeface="Verdana"/>
              </a:rPr>
              <a:t>…</a:t>
            </a:r>
            <a:r>
              <a:rPr b="1" i="1" lang="en-US" sz="6000" spc="-1" strike="noStrike">
                <a:solidFill>
                  <a:srgbClr val="ff6600"/>
                </a:solidFill>
                <a:latin typeface="Verdana"/>
              </a:rPr>
              <a:t>viento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1246680" y="5719680"/>
            <a:ext cx="3024360" cy="10083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6600"/>
                </a:solidFill>
                <a:latin typeface="Verdana"/>
              </a:rPr>
              <a:t>…</a:t>
            </a:r>
            <a:r>
              <a:rPr b="1" i="1" lang="en-US" sz="6000" spc="-1" strike="noStrike">
                <a:solidFill>
                  <a:srgbClr val="ff6600"/>
                </a:solidFill>
                <a:latin typeface="Verdana"/>
              </a:rPr>
              <a:t>fresco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16" descr="sl01391_[1]"/>
          <p:cNvPicPr/>
          <p:nvPr/>
        </p:nvPicPr>
        <p:blipFill>
          <a:blip r:embed="rId4"/>
          <a:stretch/>
        </p:blipFill>
        <p:spPr>
          <a:xfrm>
            <a:off x="5029200" y="685800"/>
            <a:ext cx="934920" cy="1825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pe07665_[1]"/>
          <p:cNvPicPr/>
          <p:nvPr/>
        </p:nvPicPr>
        <p:blipFill>
          <a:blip r:embed="rId5"/>
          <a:stretch/>
        </p:blipFill>
        <p:spPr>
          <a:xfrm>
            <a:off x="7238880" y="1523880"/>
            <a:ext cx="1459080" cy="17910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  <p:sndAc>
      <p:stSnd>
        <p:snd r:embed="rId6" name="chimes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Verdana"/>
              </a:rPr>
              <a:t>¿Qué tiempo hace?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19"/>
          <p:cNvSpPr/>
          <p:nvPr/>
        </p:nvSpPr>
        <p:spPr>
          <a:xfrm flipV="1">
            <a:off x="838080" y="228600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23"/>
          <p:cNvSpPr/>
          <p:nvPr/>
        </p:nvSpPr>
        <p:spPr>
          <a:xfrm>
            <a:off x="533520" y="205740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50021"/>
                </a:solidFill>
                <a:latin typeface="Verdana"/>
              </a:rPr>
              <a:t>Está nublado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8" name="Group 24"/>
          <p:cNvGrpSpPr/>
          <p:nvPr/>
        </p:nvGrpSpPr>
        <p:grpSpPr>
          <a:xfrm>
            <a:off x="2057400" y="1828800"/>
            <a:ext cx="6179400" cy="1482480"/>
            <a:chOff x="2057400" y="1828800"/>
            <a:chExt cx="6179400" cy="1482480"/>
          </a:xfrm>
        </p:grpSpPr>
        <p:sp>
          <p:nvSpPr>
            <p:cNvPr id="129" name="Text Box 25"/>
            <p:cNvSpPr/>
            <p:nvPr/>
          </p:nvSpPr>
          <p:spPr>
            <a:xfrm>
              <a:off x="2057400" y="2066400"/>
              <a:ext cx="183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30" name="Picture 26" descr="Clouds1"/>
            <p:cNvPicPr/>
            <p:nvPr/>
          </p:nvPicPr>
          <p:blipFill>
            <a:blip r:embed="rId1"/>
            <a:stretch/>
          </p:blipFill>
          <p:spPr>
            <a:xfrm>
              <a:off x="6152040" y="1828800"/>
              <a:ext cx="2084760" cy="148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Text Box 29"/>
          <p:cNvSpPr/>
          <p:nvPr/>
        </p:nvSpPr>
        <p:spPr>
          <a:xfrm>
            <a:off x="457200" y="3657600"/>
            <a:ext cx="4495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a50021"/>
                </a:solidFill>
                <a:latin typeface="Verdana"/>
              </a:rPr>
              <a:t>Hay tormentas.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30" descr="na02278_[1]"/>
          <p:cNvPicPr/>
          <p:nvPr/>
        </p:nvPicPr>
        <p:blipFill>
          <a:blip r:embed="rId2"/>
          <a:stretch/>
        </p:blipFill>
        <p:spPr>
          <a:xfrm>
            <a:off x="5715000" y="3516480"/>
            <a:ext cx="2057400" cy="17413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  <p:sndAc>
      <p:stSnd>
        <p:snd r:embed="rId3" name="chimes.wav"/>
      </p:stSnd>
    </p:sndAc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834840" y="228600"/>
            <a:ext cx="629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Verdana"/>
              </a:rPr>
              <a:t>¿Qué tiempo hace?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4" name="Group 7"/>
          <p:cNvGrpSpPr/>
          <p:nvPr/>
        </p:nvGrpSpPr>
        <p:grpSpPr>
          <a:xfrm>
            <a:off x="1295280" y="1498680"/>
            <a:ext cx="2147400" cy="3073320"/>
            <a:chOff x="1295280" y="1498680"/>
            <a:chExt cx="2147400" cy="3073320"/>
          </a:xfrm>
        </p:grpSpPr>
        <p:sp>
          <p:nvSpPr>
            <p:cNvPr id="135" name="Text Box 2"/>
            <p:cNvSpPr/>
            <p:nvPr/>
          </p:nvSpPr>
          <p:spPr>
            <a:xfrm>
              <a:off x="1575000" y="1498680"/>
              <a:ext cx="1867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a50021"/>
                  </a:solidFill>
                  <a:latin typeface="Verdana"/>
                </a:rPr>
                <a:t>Llueve.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36" name="Picture 5" descr="Rain"/>
            <p:cNvPicPr/>
            <p:nvPr/>
          </p:nvPicPr>
          <p:blipFill>
            <a:blip r:embed="rId1"/>
            <a:stretch/>
          </p:blipFill>
          <p:spPr>
            <a:xfrm>
              <a:off x="1295280" y="2514600"/>
              <a:ext cx="2023920" cy="205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Group 8"/>
          <p:cNvGrpSpPr/>
          <p:nvPr/>
        </p:nvGrpSpPr>
        <p:grpSpPr>
          <a:xfrm>
            <a:off x="5715000" y="1498680"/>
            <a:ext cx="2106720" cy="3225600"/>
            <a:chOff x="5715000" y="1498680"/>
            <a:chExt cx="2106720" cy="3225600"/>
          </a:xfrm>
        </p:grpSpPr>
        <p:sp>
          <p:nvSpPr>
            <p:cNvPr id="138" name="Text Box 3"/>
            <p:cNvSpPr/>
            <p:nvPr/>
          </p:nvSpPr>
          <p:spPr>
            <a:xfrm>
              <a:off x="6082560" y="1498680"/>
              <a:ext cx="1701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a50021"/>
                  </a:solidFill>
                  <a:latin typeface="Verdana"/>
                </a:rPr>
                <a:t>Nieva.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39" name="Picture 6" descr=""/>
            <p:cNvPicPr/>
            <p:nvPr/>
          </p:nvPicPr>
          <p:blipFill>
            <a:blip r:embed="rId2"/>
            <a:stretch/>
          </p:blipFill>
          <p:spPr>
            <a:xfrm>
              <a:off x="5715000" y="2590920"/>
              <a:ext cx="2106720" cy="213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Text Box 9"/>
          <p:cNvSpPr/>
          <p:nvPr/>
        </p:nvSpPr>
        <p:spPr>
          <a:xfrm>
            <a:off x="875520" y="5442120"/>
            <a:ext cx="237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50021"/>
                </a:solidFill>
                <a:latin typeface="Verdana"/>
              </a:rPr>
              <a:t>(Va a </a:t>
            </a:r>
            <a:r>
              <a:rPr b="1" i="1" lang="en-US" sz="3000" spc="-1" strike="noStrike" u="sng">
                <a:solidFill>
                  <a:srgbClr val="a50021"/>
                </a:solidFill>
                <a:uFillTx/>
                <a:latin typeface="Verdana"/>
              </a:rPr>
              <a:t>llover</a:t>
            </a:r>
            <a:r>
              <a:rPr b="0" lang="en-US" sz="3000" spc="-1" strike="noStrike">
                <a:solidFill>
                  <a:srgbClr val="a50021"/>
                </a:solidFill>
                <a:latin typeface="Verdana"/>
              </a:rPr>
              <a:t>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50021"/>
                </a:solidFill>
                <a:latin typeface="Verdana"/>
              </a:rPr>
              <a:t>(La lluvi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5562000" y="5410080"/>
            <a:ext cx="2388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50021"/>
                </a:solidFill>
                <a:latin typeface="Verdana"/>
              </a:rPr>
              <a:t>(Va a </a:t>
            </a:r>
            <a:r>
              <a:rPr b="1" i="1" lang="en-US" sz="3000" spc="-1" strike="noStrike" u="sng">
                <a:solidFill>
                  <a:srgbClr val="a50021"/>
                </a:solidFill>
                <a:uFillTx/>
                <a:latin typeface="Verdana"/>
              </a:rPr>
              <a:t>nevar</a:t>
            </a:r>
            <a:r>
              <a:rPr b="0" lang="en-US" sz="3000" spc="-1" strike="noStrike">
                <a:solidFill>
                  <a:srgbClr val="a50021"/>
                </a:solidFill>
                <a:latin typeface="Verdana"/>
              </a:rPr>
              <a:t>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50021"/>
                </a:solidFill>
                <a:latin typeface="Verdana"/>
              </a:rPr>
              <a:t>(La niev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d"/>
    <p:sndAc>
      <p:stSnd>
        <p:snd r:embed="rId3" name="chimes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784080" y="304920"/>
            <a:ext cx="668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Verdana"/>
              </a:rPr>
              <a:t>¿Qué temperatura hace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3" name="Group 9"/>
          <p:cNvGrpSpPr/>
          <p:nvPr/>
        </p:nvGrpSpPr>
        <p:grpSpPr>
          <a:xfrm>
            <a:off x="568080" y="1828800"/>
            <a:ext cx="7975080" cy="703440"/>
            <a:chOff x="568080" y="1828800"/>
            <a:chExt cx="7975080" cy="703440"/>
          </a:xfrm>
        </p:grpSpPr>
        <p:sp>
          <p:nvSpPr>
            <p:cNvPr id="144" name="Text Box 4"/>
            <p:cNvSpPr/>
            <p:nvPr/>
          </p:nvSpPr>
          <p:spPr>
            <a:xfrm>
              <a:off x="568080" y="1828800"/>
              <a:ext cx="16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“</a:t>
              </a: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Hace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Text Box 5"/>
            <p:cNvSpPr/>
            <p:nvPr/>
          </p:nvSpPr>
          <p:spPr>
            <a:xfrm>
              <a:off x="2592000" y="18288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Text Box 6"/>
            <p:cNvSpPr/>
            <p:nvPr/>
          </p:nvSpPr>
          <p:spPr>
            <a:xfrm>
              <a:off x="3375720" y="1828800"/>
              <a:ext cx="195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a50021"/>
                  </a:solidFill>
                  <a:latin typeface="Verdana"/>
                </a:rPr>
                <a:t>número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Text Box 7"/>
            <p:cNvSpPr/>
            <p:nvPr/>
          </p:nvSpPr>
          <p:spPr>
            <a:xfrm>
              <a:off x="6390360" y="1828800"/>
              <a:ext cx="2152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grados”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Text Box 8"/>
            <p:cNvSpPr/>
            <p:nvPr/>
          </p:nvSpPr>
          <p:spPr>
            <a:xfrm>
              <a:off x="5487840" y="18288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9" name="Group 15"/>
          <p:cNvGrpSpPr/>
          <p:nvPr/>
        </p:nvGrpSpPr>
        <p:grpSpPr>
          <a:xfrm>
            <a:off x="4422600" y="2819520"/>
            <a:ext cx="4263840" cy="2881440"/>
            <a:chOff x="4422600" y="2819520"/>
            <a:chExt cx="4263840" cy="2881440"/>
          </a:xfrm>
        </p:grpSpPr>
        <p:pic>
          <p:nvPicPr>
            <p:cNvPr id="150" name="Picture 11" descr="Temphot"/>
            <p:cNvPicPr/>
            <p:nvPr/>
          </p:nvPicPr>
          <p:blipFill>
            <a:blip r:embed="rId1"/>
            <a:stretch/>
          </p:blipFill>
          <p:spPr>
            <a:xfrm>
              <a:off x="7615080" y="2819520"/>
              <a:ext cx="1071360" cy="259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12"/>
            <p:cNvSpPr/>
            <p:nvPr/>
          </p:nvSpPr>
          <p:spPr>
            <a:xfrm>
              <a:off x="4422600" y="3321720"/>
              <a:ext cx="4048200" cy="23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Verdana"/>
                </a:rPr>
                <a:t>Hace 95 grados</a:t>
              </a:r>
              <a:endParaRPr b="0" lang="en-US" sz="3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Verdana"/>
                </a:rPr>
                <a:t>Farenheit.</a:t>
              </a:r>
              <a:endParaRPr b="0" lang="en-US" sz="3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(Hace 35 grados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Centígrado.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2" name="Group 14"/>
          <p:cNvGrpSpPr/>
          <p:nvPr/>
        </p:nvGrpSpPr>
        <p:grpSpPr>
          <a:xfrm>
            <a:off x="609480" y="3048120"/>
            <a:ext cx="3962160" cy="2844360"/>
            <a:chOff x="609480" y="3048120"/>
            <a:chExt cx="3962160" cy="2844360"/>
          </a:xfrm>
        </p:grpSpPr>
        <p:pic>
          <p:nvPicPr>
            <p:cNvPr id="153" name="Picture 10" descr="Tempcold"/>
            <p:cNvPicPr/>
            <p:nvPr/>
          </p:nvPicPr>
          <p:blipFill>
            <a:blip r:embed="rId2"/>
            <a:stretch/>
          </p:blipFill>
          <p:spPr>
            <a:xfrm>
              <a:off x="609480" y="3048120"/>
              <a:ext cx="857160" cy="142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13"/>
            <p:cNvSpPr/>
            <p:nvPr/>
          </p:nvSpPr>
          <p:spPr>
            <a:xfrm>
              <a:off x="821880" y="3177720"/>
              <a:ext cx="3749760" cy="27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Verdana"/>
                </a:rPr>
                <a:t>Hace 32 grados</a:t>
              </a:r>
              <a:endParaRPr b="0" lang="en-US" sz="3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Verdana"/>
                </a:rPr>
                <a:t>Farenheit.</a:t>
              </a:r>
              <a:endParaRPr b="0" lang="en-US" sz="3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(Hace 0 grados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Centígrado.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d"/>
    <p:sndAc>
      <p:stSnd>
        <p:snd r:embed="rId3" name="chimes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iltmar</cp:lastModifiedBy>
  <dcterms:modified xsi:type="dcterms:W3CDTF">2009-01-12T18:59:45Z</dcterms:modified>
  <cp:revision>23</cp:revision>
  <dc:subject/>
  <dc:title>PowerPoint Presentation</dc:title>
</cp:coreProperties>
</file>