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ricochet.wav" ContentType="audio/x-wav"/>
  <Override PartName="/ppt/media/chimes.wav" ContentType="audio/x-wav"/>
  <Override PartName="/ppt/media/image7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Custom Show 1" id="0">
      <p:sldLst>
        <p:sld r:id="rId7"/>
      </p:sldLst>
    </p:custShow>
    <p:custShow name="Custom Show 2" id="1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69D-7894-4544-8B89-31299FAB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9DB-801E-4001-8895-E7EE9839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62D-C3F3-4815-82D9-003B6CF9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BE5-5042-4F08-9FF3-B2D4C224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5FBA-D4EB-49D5-AC15-8D0B8274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C3F7-F9D4-4BB6-A5EE-C6F7899B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4C50-3358-484F-946D-33B3A3C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032C-2441-453F-A41A-1D184DD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C501-71D5-454D-BBB8-C2496D6F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27B2-76DE-459A-A4C2-6D5F0C02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10C-0464-43BD-9FD2-64E56DA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F8D-098D-400E-9C83-AAA8DD7E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5B32-3000-4C2B-8EDD-8BDBB77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1978-4322-40DA-BB3E-F33CDFD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E1A9-946E-4437-AAE1-79E1A799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157B-FEBF-4426-8C75-719B0F3B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3001-FC97-47EA-8EE7-9C74C351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82F-B3A4-49FB-8CEE-F0393F19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666-CF4B-4FF5-AAB0-7A446BC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327-EB01-4D07-8686-8E1C1BD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E76-84E2-4EE2-9634-0314F67D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4B4-DA5B-43B7-989B-A5FEEB3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174-245E-4CC3-A797-DF8B990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51C-5F0E-411E-B681-DC4CF93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80A9-8038-4763-A36A-8B051A2CA8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1031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3DCA-82CD-4C4B-838F-F6CA428606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Qué piensa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imi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about the weather where you live. Brainstorm with your partner what you think the weather is like in different Spanish speaking count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Spain right no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Chi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weather like in Puerto Ric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1963800"/>
            <a:ext cx="88851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68400" y="76320"/>
            <a:ext cx="875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1600200" y="1219320"/>
            <a:ext cx="1326960" cy="1952640"/>
            <a:chOff x="1600200" y="1219320"/>
            <a:chExt cx="1326960" cy="1952640"/>
          </a:xfrm>
        </p:grpSpPr>
        <p:pic>
          <p:nvPicPr>
            <p:cNvPr id="88" name="Picture 3" descr="so00828_"/>
            <p:cNvPicPr/>
            <p:nvPr/>
          </p:nvPicPr>
          <p:blipFill>
            <a:blip r:embed="rId1"/>
            <a:stretch/>
          </p:blipFill>
          <p:spPr>
            <a:xfrm>
              <a:off x="1600200" y="134460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2743200" y="12193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5257800" y="3733920"/>
            <a:ext cx="2162160" cy="1844640"/>
            <a:chOff x="5257800" y="3733920"/>
            <a:chExt cx="2162160" cy="1844640"/>
          </a:xfrm>
        </p:grpSpPr>
        <p:pic>
          <p:nvPicPr>
            <p:cNvPr id="91" name="Picture 6" descr="na00391_"/>
            <p:cNvPicPr/>
            <p:nvPr/>
          </p:nvPicPr>
          <p:blipFill>
            <a:blip r:embed="rId2"/>
            <a:stretch/>
          </p:blipFill>
          <p:spPr>
            <a:xfrm>
              <a:off x="5257800" y="43927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8"/>
            <p:cNvSpPr/>
            <p:nvPr/>
          </p:nvSpPr>
          <p:spPr>
            <a:xfrm>
              <a:off x="5410080" y="373392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457200" y="4038480"/>
            <a:ext cx="2282400" cy="2026080"/>
            <a:chOff x="457200" y="4038480"/>
            <a:chExt cx="2282400" cy="2026080"/>
          </a:xfrm>
        </p:grpSpPr>
        <p:pic>
          <p:nvPicPr>
            <p:cNvPr id="94" name="Picture 5" descr="na00864_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597600" y="5361120"/>
              <a:ext cx="214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3962520" y="1600200"/>
            <a:ext cx="3413160" cy="1752480"/>
            <a:chOff x="3962520" y="1600200"/>
            <a:chExt cx="3413160" cy="1752480"/>
          </a:xfrm>
        </p:grpSpPr>
        <p:pic>
          <p:nvPicPr>
            <p:cNvPr id="97" name="Picture 4" descr="pe00542_"/>
            <p:cNvPicPr/>
            <p:nvPr/>
          </p:nvPicPr>
          <p:blipFill>
            <a:blip r:embed="rId4"/>
            <a:stretch/>
          </p:blipFill>
          <p:spPr>
            <a:xfrm>
              <a:off x="5651640" y="16002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3962520" y="2541600"/>
              <a:ext cx="184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15"/>
          <p:cNvSpPr/>
          <p:nvPr/>
        </p:nvSpPr>
        <p:spPr>
          <a:xfrm>
            <a:off x="685800" y="30481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 primav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257800" y="342900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vera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876920" y="6019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 inviern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104" name="Text Box 3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6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pe00542_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3" descr="Stormy1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379440" y="228600"/>
            <a:ext cx="502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3" descr="Sun2"/>
          <p:cNvPicPr/>
          <p:nvPr/>
        </p:nvPicPr>
        <p:blipFill>
          <a:blip r:embed="rId1"/>
          <a:stretch/>
        </p:blipFill>
        <p:spPr>
          <a:xfrm>
            <a:off x="762120" y="160020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144612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na01474_"/>
          <p:cNvPicPr/>
          <p:nvPr/>
        </p:nvPicPr>
        <p:blipFill>
          <a:blip r:embed="rId3"/>
          <a:stretch/>
        </p:blipFill>
        <p:spPr>
          <a:xfrm>
            <a:off x="2057400" y="4419720"/>
            <a:ext cx="1752480" cy="138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69120" y="2932200"/>
            <a:ext cx="18507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336480" y="2398680"/>
            <a:ext cx="26326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882840" y="3465360"/>
            <a:ext cx="209628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800600" y="5719680"/>
            <a:ext cx="396252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46680" y="5719680"/>
            <a:ext cx="3024360" cy="100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60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6" descr="sl01391_[1]"/>
          <p:cNvPicPr/>
          <p:nvPr/>
        </p:nvPicPr>
        <p:blipFill>
          <a:blip r:embed="rId4"/>
          <a:stretch/>
        </p:blipFill>
        <p:spPr>
          <a:xfrm>
            <a:off x="5029200" y="685800"/>
            <a:ext cx="934920" cy="182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pe07665_[1]"/>
          <p:cNvPicPr/>
          <p:nvPr/>
        </p:nvPicPr>
        <p:blipFill>
          <a:blip r:embed="rId5"/>
          <a:stretch/>
        </p:blipFill>
        <p:spPr>
          <a:xfrm>
            <a:off x="7238880" y="1523880"/>
            <a:ext cx="1459080" cy="17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9"/>
          <p:cNvSpPr/>
          <p:nvPr/>
        </p:nvSpPr>
        <p:spPr>
          <a:xfrm flipV="1">
            <a:off x="838080" y="2286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33520" y="2057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Verdana"/>
              </a:rPr>
              <a:t>Está nublado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24"/>
          <p:cNvGrpSpPr/>
          <p:nvPr/>
        </p:nvGrpSpPr>
        <p:grpSpPr>
          <a:xfrm>
            <a:off x="2057400" y="1828800"/>
            <a:ext cx="6179400" cy="1482480"/>
            <a:chOff x="2057400" y="1828800"/>
            <a:chExt cx="6179400" cy="1482480"/>
          </a:xfrm>
        </p:grpSpPr>
        <p:sp>
          <p:nvSpPr>
            <p:cNvPr id="129" name="Text Box 25"/>
            <p:cNvSpPr/>
            <p:nvPr/>
          </p:nvSpPr>
          <p:spPr>
            <a:xfrm>
              <a:off x="2057400" y="2066400"/>
              <a:ext cx="183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26" descr="Clouds1"/>
            <p:cNvPicPr/>
            <p:nvPr/>
          </p:nvPicPr>
          <p:blipFill>
            <a:blip r:embed="rId1"/>
            <a:stretch/>
          </p:blipFill>
          <p:spPr>
            <a:xfrm>
              <a:off x="6152040" y="1828800"/>
              <a:ext cx="2084760" cy="14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29"/>
          <p:cNvSpPr/>
          <p:nvPr/>
        </p:nvSpPr>
        <p:spPr>
          <a:xfrm>
            <a:off x="457200" y="36576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a50021"/>
                </a:solidFill>
                <a:latin typeface="Verdana"/>
              </a:rPr>
              <a:t>Hay tormentas.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0" descr="na02278_[1]"/>
          <p:cNvPicPr/>
          <p:nvPr/>
        </p:nvPicPr>
        <p:blipFill>
          <a:blip r:embed="rId2"/>
          <a:stretch/>
        </p:blipFill>
        <p:spPr>
          <a:xfrm>
            <a:off x="5715000" y="3516480"/>
            <a:ext cx="2057400" cy="1741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3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295280" y="1498680"/>
            <a:ext cx="2147400" cy="3073320"/>
            <a:chOff x="1295280" y="1498680"/>
            <a:chExt cx="2147400" cy="3073320"/>
          </a:xfrm>
        </p:grpSpPr>
        <p:sp>
          <p:nvSpPr>
            <p:cNvPr id="135" name="Text Box 2"/>
            <p:cNvSpPr/>
            <p:nvPr/>
          </p:nvSpPr>
          <p:spPr>
            <a:xfrm>
              <a:off x="1575000" y="1498680"/>
              <a:ext cx="186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6" name="Picture 5" descr="Rain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8"/>
          <p:cNvGrpSpPr/>
          <p:nvPr/>
        </p:nvGrpSpPr>
        <p:grpSpPr>
          <a:xfrm>
            <a:off x="5715000" y="1498680"/>
            <a:ext cx="2106720" cy="3225600"/>
            <a:chOff x="5715000" y="1498680"/>
            <a:chExt cx="2106720" cy="3225600"/>
          </a:xfrm>
        </p:grpSpPr>
        <p:sp>
          <p:nvSpPr>
            <p:cNvPr id="138" name="Text Box 3"/>
            <p:cNvSpPr/>
            <p:nvPr/>
          </p:nvSpPr>
          <p:spPr>
            <a:xfrm>
              <a:off x="6082560" y="149868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9"/>
          <p:cNvSpPr/>
          <p:nvPr/>
        </p:nvSpPr>
        <p:spPr>
          <a:xfrm>
            <a:off x="875520" y="5442120"/>
            <a:ext cx="237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562000" y="5410080"/>
            <a:ext cx="238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30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4" name="Text Box 4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4422600" y="2819520"/>
            <a:ext cx="4263840" cy="2881440"/>
            <a:chOff x="4422600" y="2819520"/>
            <a:chExt cx="4263840" cy="2881440"/>
          </a:xfrm>
        </p:grpSpPr>
        <p:pic>
          <p:nvPicPr>
            <p:cNvPr id="150" name="Picture 11" descr="Temphot"/>
            <p:cNvPicPr/>
            <p:nvPr/>
          </p:nvPicPr>
          <p:blipFill>
            <a:blip r:embed="rId1"/>
            <a:stretch/>
          </p:blipFill>
          <p:spPr>
            <a:xfrm>
              <a:off x="7615080" y="2819520"/>
              <a:ext cx="1071360" cy="259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2"/>
            <p:cNvSpPr/>
            <p:nvPr/>
          </p:nvSpPr>
          <p:spPr>
            <a:xfrm>
              <a:off x="4422600" y="3321720"/>
              <a:ext cx="4048200" cy="23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480" y="3048120"/>
            <a:ext cx="3962160" cy="2844360"/>
            <a:chOff x="609480" y="3048120"/>
            <a:chExt cx="3962160" cy="2844360"/>
          </a:xfrm>
        </p:grpSpPr>
        <p:pic>
          <p:nvPicPr>
            <p:cNvPr id="153" name="Picture 10" descr="Tempcold"/>
            <p:cNvPicPr/>
            <p:nvPr/>
          </p:nvPicPr>
          <p:blipFill>
            <a:blip r:embed="rId2"/>
            <a:stretch/>
          </p:blipFill>
          <p:spPr>
            <a:xfrm>
              <a:off x="609480" y="3048120"/>
              <a:ext cx="85716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/>
            <p:cNvSpPr/>
            <p:nvPr/>
          </p:nvSpPr>
          <p:spPr>
            <a:xfrm>
              <a:off x="821880" y="3177720"/>
              <a:ext cx="37497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iltmar</cp:lastModifiedBy>
  <dcterms:modified xsi:type="dcterms:W3CDTF">2009-01-12T18:59:45Z</dcterms:modified>
  <cp:revision>23</cp:revision>
  <dc:subject/>
  <dc:title>PowerPoint Presentation</dc:title>
</cp:coreProperties>
</file>